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114-6156-4AE0-A0B1-00ABA97B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2AD-08E0-48E5-9524-F7B994D11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A21-B417-4A56-94C6-FB793765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F94-19E0-42DA-9576-7A739BF6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5EF4-5CE0-404D-A805-75E5829BE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BB21-97A7-4FF2-B507-B4589894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F388-F271-46E2-9772-661A2E99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06DC-3E3C-40B8-96DF-A7B709CD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CCE0-CDF9-497D-BACA-0C1F8D0B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2C7A-25EF-4610-A9E8-5E5BB46E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1A9A-BAF2-4C79-B9FF-9F013E5D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7A91-FE38-4E06-A51B-04D887DF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C44E-1162-425B-A8D5-729547F0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132F-55F2-4D71-9B36-9843610F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0DDA-B4C6-4145-80F8-0A301E4C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A795-E908-4E4C-B5AE-33AB2F60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A7E1-DA62-454B-A323-4081FCD8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A37C-E5B3-433B-A1AD-F2E4F1CC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711-ED2A-49EA-95AB-73AF07D7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5181-B2F1-4BC7-B265-02E1E597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3AB-93F7-486F-8CAC-D7C4931E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8FD-00E7-40D0-979B-B00E3A26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AD1-36F8-4CE9-BD75-B5B2F10C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152-360C-44CF-B753-5798218C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B750-561B-4551-A248-9EFEF24F853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BED1-351E-43E9-B90E-5E53670666B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438280" y="3048120"/>
            <a:ext cx="452448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30.1  </a:t>
            </a: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反比例函数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520" y="838080"/>
            <a:ext cx="4248000" cy="2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义务教育课程标准实验教科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47640" y="1413000"/>
            <a:ext cx="165600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九年级 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48520" y="5869080"/>
            <a:ext cx="20145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河北教育出版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1143000"/>
            <a:ext cx="80010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行车运动员在长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00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路段上骑车训练，行驶全程所用的时间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行驶的平均速度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函数表达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当行驶的平均速度分别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m/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2.5m/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行驶全程所用的时间各为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5105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250s 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000s ,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80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48120" y="3135240"/>
                <a:ext cx="14554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11430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一个物体对桌面的压力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50N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受力面积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压强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P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函数关系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根据写出的函数关系式，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观察上表，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增大还是减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81280"/>
          <a:ext cx="7467480" cy="1143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286000" y="42670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5           22.5          15          11.25       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959440" y="1712880"/>
          <a:ext cx="158436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9440" y="1712880"/>
                    <a:ext cx="1584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3382560" y="558468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4920" y="106668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已知的面积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0c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底边长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cm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高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写出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函数关系式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根据</a:t>
            </a:r>
            <a:r>
              <a:rPr b="1" lang="zh-CN" sz="2800" spc="-1" strike="noStrike">
                <a:solidFill>
                  <a:srgbClr val="0000ff"/>
                </a:solidFill>
                <a:latin typeface="Comic Sans MS"/>
              </a:rPr>
              <a:t>写出的函数关系式，填写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）观察上表，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是怎样变化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30492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3048120"/>
          <a:ext cx="7467480" cy="1143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715000" y="1523880"/>
                <a:ext cx="1184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69" name=""/>
          <p:cNvGrpSpPr/>
          <p:nvPr/>
        </p:nvGrpSpPr>
        <p:grpSpPr>
          <a:xfrm>
            <a:off x="2057400" y="3581280"/>
            <a:ext cx="6172200" cy="612000"/>
            <a:chOff x="2057400" y="3581280"/>
            <a:chExt cx="6172200" cy="612000"/>
          </a:xfrm>
        </p:grpSpPr>
        <p:sp>
          <p:nvSpPr>
            <p:cNvPr id="170" name=""/>
            <p:cNvSpPr/>
            <p:nvPr/>
          </p:nvSpPr>
          <p:spPr>
            <a:xfrm>
              <a:off x="2057400" y="373356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20          10                                  5             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" name=""/>
                <p:cNvSpPr txBox="1"/>
                <p:nvPr/>
              </p:nvSpPr>
              <p:spPr>
                <a:xfrm>
                  <a:off x="4787640" y="3581280"/>
                  <a:ext cx="354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2" name=""/>
          <p:cNvSpPr/>
          <p:nvPr/>
        </p:nvSpPr>
        <p:spPr>
          <a:xfrm>
            <a:off x="2926080" y="4846680"/>
            <a:ext cx="239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增大时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09480" y="30492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家谈谈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143000"/>
            <a:ext cx="8001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前面三个函数表达式有哪些共同特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如果变量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与变量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乘积总是等于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那么用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表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表达式具有前面的特征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你还能举出具有这种函数关系的实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80880" y="3416400"/>
            <a:ext cx="8229600" cy="2064600"/>
            <a:chOff x="380880" y="3416400"/>
            <a:chExt cx="8229600" cy="2064600"/>
          </a:xfrm>
        </p:grpSpPr>
        <p:sp>
          <p:nvSpPr>
            <p:cNvPr id="176" name=""/>
            <p:cNvSpPr/>
            <p:nvPr/>
          </p:nvSpPr>
          <p:spPr>
            <a:xfrm>
              <a:off x="380880" y="3416400"/>
              <a:ext cx="822960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如果变量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和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之间的函数关系可以表示成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常数，且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k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≠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的形式，则称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是</a:t>
              </a:r>
              <a:r>
                <a:rPr b="1" i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反比例函数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．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"/>
                <p:cNvSpPr txBox="1"/>
                <p:nvPr/>
              </p:nvSpPr>
              <p:spPr>
                <a:xfrm>
                  <a:off x="380880" y="3962520"/>
                  <a:ext cx="1676520" cy="100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randomBar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480" y="304920"/>
            <a:ext cx="1067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练习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14300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举出生活中具有反比例关系的实例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星星电子集团接到了生产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00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计算机零部件的任务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请写出用生产这批零部件所要用的时间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t(h)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表示每小时生产零部件个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函数表达式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在下列函数中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哪些是反比例函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724280" y="2583000"/>
                <a:ext cx="1447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0880" y="4038480"/>
                <a:ext cx="1295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286000" y="4267080"/>
                <a:ext cx="13716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486400" y="5257800"/>
                <a:ext cx="1258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114800" y="4038480"/>
                <a:ext cx="14558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248520" y="4038480"/>
                <a:ext cx="1930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666880" y="5257800"/>
                <a:ext cx="17082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838080" y="4648320"/>
            <a:ext cx="8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4648320"/>
            <a:ext cx="8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464832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10280" y="464832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52680" y="5943600"/>
            <a:ext cx="12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67280" y="5943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不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447920" y="251460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业：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971800" y="365760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习题 </a:t>
            </a:r>
            <a:r>
              <a:rPr b="1" lang="en-US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.2.3.4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雨林木风</cp:lastModifiedBy>
  <dcterms:modified xsi:type="dcterms:W3CDTF">2009-08-13T09:09:0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